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EDE-4EB2-4CBF-848E-2ECB98523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omplete the link on the last slide, the computer must be connected to (and logged on to)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as originally posted 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8.183.128.3/ce/ppt.htm      Connie Campbell can be reached at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pbelc@k12tn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omplete the link on this slide, the computer must be connected to (and logged on to)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try this on your own before, you use it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AEB-A578-49B0-8104-845867AB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5BD-A15A-4540-B031-2B9E346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650-6E5E-4B50-82D9-EB8D6FDC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470-04CE-47B5-9F7C-4C90CA0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BB1-935C-4C7C-AB43-FB231B1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B24-9A44-48AE-9BCB-4CB8B869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069-C306-4A57-AC7F-2A3B79B2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10E-608B-4DF7-9991-1A25D09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C74-AB6B-447F-922E-5EAAD92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040-D6D1-4E3C-BEF3-B3F7FB2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CB4-8CC9-4176-B389-6BB94CD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3B9-F789-4A55-92BF-3255339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F59-CD63-4E2A-B0BB-6938DEF5C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mpbelc@ten-nash.ten.k12.tn.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tm.org/HITHELP/HIT00040.HTM" TargetMode="External"/><Relationship Id="rId2" Type="http://schemas.openxmlformats.org/officeDocument/2006/relationships/hyperlink" Target="http://falcon.cc.ukans.edu/~funshine/Larry/W&amp;RFRM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7400" y="228600"/>
            <a:ext cx="541008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34720" y="3276720"/>
            <a:ext cx="8853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oot word is a word that has a prefix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ffix, or both added to i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line the root word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llowing slid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prefix or suff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96240" y="2403360"/>
            <a:ext cx="37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909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161160" y="1371600"/>
            <a:ext cx="38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eas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hones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5238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181480"/>
            <a:ext cx="13716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6858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76920" y="2286000"/>
            <a:ext cx="121896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038480"/>
            <a:ext cx="198144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657600" y="5867280"/>
            <a:ext cx="17524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40280" y="304920"/>
            <a:ext cx="621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you need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ctice,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Searching for Roo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Words and Roo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oofy" descr=""/>
          <p:cNvPicPr/>
          <p:nvPr/>
        </p:nvPicPr>
        <p:blipFill>
          <a:blip r:embed="rId3"/>
          <a:stretch/>
        </p:blipFill>
        <p:spPr>
          <a:xfrm>
            <a:off x="2895480" y="3940200"/>
            <a:ext cx="3276720" cy="291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629400" y="51814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7200" y="1828800"/>
            <a:ext cx="913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 the mouse to the bottom left cor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il an arrow appea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he bottom left arrow to sel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72200"/>
            <a:ext cx="1600200" cy="457200"/>
          </a:xfrm>
          <a:prstGeom prst="leftArrow">
            <a:avLst>
              <a:gd name="adj1" fmla="val 50000"/>
              <a:gd name="adj2" fmla="val 8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3320" y="5711760"/>
            <a:ext cx="53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the following slides click this but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lick the wor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npointx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78144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1371600"/>
            <a:ext cx="318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zipp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arch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rag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973600" y="1371600"/>
            <a:ext cx="318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zipp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arch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rag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0" y="2182680"/>
            <a:ext cx="787320" cy="5076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52640" y="15112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114800"/>
            <a:ext cx="19810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14800" y="5867280"/>
            <a:ext cx="12952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2973240" y="1371600"/>
            <a:ext cx="344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mou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m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973240" y="1371600"/>
            <a:ext cx="344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mou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m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286000"/>
            <a:ext cx="19810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2767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962520" y="4038480"/>
            <a:ext cx="12952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3352680"/>
            <a:ext cx="1219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0400" y="5943600"/>
            <a:ext cx="182880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5181480"/>
            <a:ext cx="1219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43828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2057760" y="1371600"/>
            <a:ext cx="526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appoint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lov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43828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2057760" y="1371600"/>
            <a:ext cx="526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appoint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lov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2767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523880"/>
            <a:ext cx="18288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209680"/>
            <a:ext cx="251460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038480"/>
            <a:ext cx="198144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67080" y="5790600"/>
            <a:ext cx="1219320" cy="7596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161160" y="1371600"/>
            <a:ext cx="38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eas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hones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2T03:32:48Z</dcterms:created>
  <dc:creator>Dandridge Elementary</dc:creator>
  <dc:description/>
  <dc:language>en-US</dc:language>
  <cp:lastModifiedBy>Madera High School</cp:lastModifiedBy>
  <dcterms:modified xsi:type="dcterms:W3CDTF">1904-01-08T08:49:17Z</dcterms:modified>
  <cp:revision>7</cp:revision>
  <dc:subject/>
  <dc:title>No Slide Title</dc:title>
</cp:coreProperties>
</file>